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2FD-C520-44D7-BA75-4A8DA20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F82-E320-4B50-BFC0-78D0E30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116-D298-4B9D-A036-7526C2C4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FB1-7742-4AF1-82EA-56EADCE6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514-FF38-4A82-9A09-06FDCE8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E75-76CC-4975-816B-CE582BDC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F7E-A242-4B85-B90F-47A00251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BEA-5E2B-455D-A65A-011073B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F59-877A-4A68-9590-E41537C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05A-3651-485A-BBD5-F31E787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587-A701-4155-99AC-D0CE244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EE4-184C-4319-BE42-C33C1EB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5704-CF95-41E6-A0AD-B7B24FE829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нализ типичных затруднений выпускников при выполнении заданий  ЕГЭ-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ЛЕПИНА И.А, учитель русского языка и литературы МАОУ «Гимназия №1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 «город Бугурусла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https://avatars.mds.yandex.net/i?id=b2706cde00b679f110ab94a535c1cbbdc627b1a6-4080017-images-thumbs&amp;n=13"/>
          <p:cNvPicPr/>
          <p:nvPr/>
        </p:nvPicPr>
        <p:blipFill>
          <a:blip r:embed="rId1"/>
          <a:stretch/>
        </p:blipFill>
        <p:spPr>
          <a:xfrm>
            <a:off x="76320" y="85680"/>
            <a:ext cx="4572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19320"/>
          <a:ext cx="8229600" cy="297180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 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219320"/>
          <a:ext cx="8229600" cy="472428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терий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ая 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фогра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нкту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евые нор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9:23Z</dcterms:created>
  <dc:creator>Татьяна</dc:creator>
  <dc:description/>
  <dc:language>en-US</dc:language>
  <cp:lastModifiedBy>User</cp:lastModifiedBy>
  <dcterms:modified xsi:type="dcterms:W3CDTF">2025-10-13T16:02:40Z</dcterms:modified>
  <cp:revision>65</cp:revision>
  <dc:subject/>
  <dc:title>Технология педагогических мастерских</dc:title>
</cp:coreProperties>
</file>